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4360" y="715680"/>
            <a:ext cx="4770360" cy="357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33840"/>
            <a:ext cx="54864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644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0644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FDB6-7CB9-4D04-A9F5-7B25B36BEC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90648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AFB2-81B4-4AF9-AC4C-2B781542F1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2A4-E6EA-45AF-B81C-8ED0870F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264-56CB-4025-AD9D-8AA2E274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602-E95A-48C1-8E23-BFAA1F53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282-7EE2-4506-BF50-D3495ACB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E1B-FC0A-4059-AB2D-B099718F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267-EE31-48BD-83F7-CA7EE95A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33F-E23D-4A01-A6D1-C7F06301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19D-0FE2-4268-9E75-1FEA13F7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AC3-8CB2-4413-80FC-5E89F013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380-7BDF-41FF-BC83-6C35F9E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DD6-764F-45D2-B5BC-B7DC5E2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F73-B0E5-4376-ABDD-E5A82050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7665"/>
            </a:gs>
            <a:gs pos="100000">
              <a:srgbClr val="b5ff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D34-0013-4FA4-8C63-44E8248BDA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OSICION DE LAS MEMBRANAS BIOLO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ROTEIN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Integrales  ó perifé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les, receptores  ó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LIPI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Fosfolípidos, glicolípidos 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724280" cy="6350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700360" y="339840"/>
            <a:ext cx="15843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luto hid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6"/>
          <p:cNvGrpSpPr/>
          <p:nvPr/>
        </p:nvGrpSpPr>
        <p:grpSpPr>
          <a:xfrm>
            <a:off x="2627280" y="2276640"/>
            <a:ext cx="4460760" cy="2182320"/>
            <a:chOff x="2627280" y="2276640"/>
            <a:chExt cx="4460760" cy="2182320"/>
          </a:xfrm>
        </p:grpSpPr>
        <p:sp>
          <p:nvSpPr>
            <p:cNvPr id="88" name="Text Box 8"/>
            <p:cNvSpPr/>
            <p:nvPr/>
          </p:nvSpPr>
          <p:spPr>
            <a:xfrm>
              <a:off x="2627280" y="2276640"/>
              <a:ext cx="2124000" cy="42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Dif.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Sin transport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635280" y="3284640"/>
              <a:ext cx="2016000" cy="576360"/>
              <a:chOff x="3635280" y="3284640"/>
              <a:chExt cx="2016000" cy="576360"/>
            </a:xfrm>
          </p:grpSpPr>
          <p:sp>
            <p:nvSpPr>
              <p:cNvPr id="90" name="Text Box 9"/>
              <p:cNvSpPr/>
              <p:nvPr/>
            </p:nvSpPr>
            <p:spPr>
              <a:xfrm>
                <a:off x="3635280" y="3284640"/>
                <a:ext cx="2016000" cy="423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Dif.facilita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c/ transportad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0"/>
              <p:cNvSpPr/>
              <p:nvPr/>
            </p:nvSpPr>
            <p:spPr>
              <a:xfrm>
                <a:off x="4911840" y="3716640"/>
                <a:ext cx="135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12"/>
            <p:cNvSpPr/>
            <p:nvPr/>
          </p:nvSpPr>
          <p:spPr>
            <a:xfrm>
              <a:off x="5794200" y="3213360"/>
              <a:ext cx="1293840" cy="669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s-AR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*               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  Dif.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4067280" y="4077000"/>
              <a:ext cx="1584000" cy="38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s-AR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*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c/transp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5"/>
          <p:cNvSpPr/>
          <p:nvPr/>
        </p:nvSpPr>
        <p:spPr>
          <a:xfrm>
            <a:off x="2195640" y="5950080"/>
            <a:ext cx="2016000" cy="66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 trans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2195640" y="2133720"/>
            <a:ext cx="4897440" cy="30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195640" y="5084640"/>
            <a:ext cx="4752720" cy="158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0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spcBef>
                <a:spcPts val="2001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PA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268360" y="1844640"/>
            <a:ext cx="38181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 = P  A  (C1 – 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19280" y="2492280"/>
            <a:ext cx="460836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 =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= COEFICIENTE DE PERM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684360" y="4869000"/>
            <a:ext cx="6048360" cy="16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 depende d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eficiente de part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lidad del soluto en la bic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sor de la porción hidrofóbica de la 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476360" y="1197000"/>
            <a:ext cx="47530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LEY DE FICK: DIFUS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áfica de velocidad de flujo en función de la concentración de so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1403280" y="1413000"/>
            <a:ext cx="6265800" cy="5149800"/>
            <a:chOff x="1403280" y="1413000"/>
            <a:chExt cx="6265800" cy="5149800"/>
          </a:xfrm>
        </p:grpSpPr>
        <p:pic>
          <p:nvPicPr>
            <p:cNvPr id="104" name="Picture 6" descr="fi10p24"/>
            <p:cNvPicPr/>
            <p:nvPr/>
          </p:nvPicPr>
          <p:blipFill>
            <a:blip r:embed="rId1"/>
            <a:stretch/>
          </p:blipFill>
          <p:spPr>
            <a:xfrm>
              <a:off x="1403280" y="1413000"/>
              <a:ext cx="5256360" cy="51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/>
            <p:cNvSpPr/>
            <p:nvPr/>
          </p:nvSpPr>
          <p:spPr>
            <a:xfrm>
              <a:off x="2771640" y="4149720"/>
              <a:ext cx="158436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RANSPOR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FACILI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932360" y="4653000"/>
              <a:ext cx="158436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RANSPOR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S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11280" y="5877000"/>
              <a:ext cx="5257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ferencia de concentración de soluto a través de la 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 rot="16200000">
              <a:off x="887760" y="3584160"/>
              <a:ext cx="2232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elocidad de fluj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4788000" y="2349360"/>
              <a:ext cx="12967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31"/>
          <p:cNvGrpSpPr/>
          <p:nvPr/>
        </p:nvGrpSpPr>
        <p:grpSpPr>
          <a:xfrm>
            <a:off x="6838920" y="3500280"/>
            <a:ext cx="2305080" cy="1441440"/>
            <a:chOff x="6838920" y="3500280"/>
            <a:chExt cx="2305080" cy="1441440"/>
          </a:xfrm>
        </p:grpSpPr>
        <p:sp>
          <p:nvSpPr>
            <p:cNvPr id="111" name="Rectangle 30"/>
            <p:cNvSpPr/>
            <p:nvPr/>
          </p:nvSpPr>
          <p:spPr>
            <a:xfrm>
              <a:off x="6838920" y="3500280"/>
              <a:ext cx="2305080" cy="1441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9"/>
            <p:cNvGrpSpPr/>
            <p:nvPr/>
          </p:nvGrpSpPr>
          <p:grpSpPr>
            <a:xfrm>
              <a:off x="7054920" y="3645000"/>
              <a:ext cx="1942920" cy="1150920"/>
              <a:chOff x="7054920" y="3645000"/>
              <a:chExt cx="1942920" cy="1150920"/>
            </a:xfrm>
          </p:grpSpPr>
          <p:grpSp>
            <p:nvGrpSpPr>
              <p:cNvPr id="113" name="Group 17"/>
              <p:cNvGrpSpPr/>
              <p:nvPr/>
            </p:nvGrpSpPr>
            <p:grpSpPr>
              <a:xfrm>
                <a:off x="7124760" y="3860640"/>
                <a:ext cx="1872720" cy="860400"/>
                <a:chOff x="7124760" y="3860640"/>
                <a:chExt cx="1872720" cy="860400"/>
              </a:xfrm>
            </p:grpSpPr>
            <p:grpSp>
              <p:nvGrpSpPr>
                <p:cNvPr id="114" name="Group 15"/>
                <p:cNvGrpSpPr/>
                <p:nvPr/>
              </p:nvGrpSpPr>
              <p:grpSpPr>
                <a:xfrm>
                  <a:off x="7268760" y="3860640"/>
                  <a:ext cx="1728720" cy="860400"/>
                  <a:chOff x="7268760" y="3860640"/>
                  <a:chExt cx="1728720" cy="860400"/>
                </a:xfrm>
              </p:grpSpPr>
              <p:sp>
                <p:nvSpPr>
                  <p:cNvPr id="115" name="Text Box 13"/>
                  <p:cNvSpPr/>
                  <p:nvPr/>
                </p:nvSpPr>
                <p:spPr>
                  <a:xfrm>
                    <a:off x="7268760" y="3860640"/>
                    <a:ext cx="1728720" cy="86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J </a:t>
                    </a:r>
                    <a:r>
                      <a:rPr b="0" lang="es-ES_tradnl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máx</a:t>
                    </a: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.  [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r>
                      <a:rPr b="0" lang="es-ES_tradnl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,5</a:t>
                    </a: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+  [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7557480" y="4221000"/>
                    <a:ext cx="118404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Text Box 16"/>
                <p:cNvSpPr/>
                <p:nvPr/>
              </p:nvSpPr>
              <p:spPr>
                <a:xfrm>
                  <a:off x="7124760" y="4005360"/>
                  <a:ext cx="79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J 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Rectangle 18"/>
              <p:cNvSpPr/>
              <p:nvPr/>
            </p:nvSpPr>
            <p:spPr>
              <a:xfrm>
                <a:off x="7054920" y="3645000"/>
                <a:ext cx="1942920" cy="1150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1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ND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2916360" y="1484280"/>
            <a:ext cx="5976720" cy="3965400"/>
            <a:chOff x="2916360" y="1484280"/>
            <a:chExt cx="5976720" cy="3965400"/>
          </a:xfrm>
        </p:grpSpPr>
        <p:pic>
          <p:nvPicPr>
            <p:cNvPr id="122" name="Picture 4" descr=""/>
            <p:cNvPicPr/>
            <p:nvPr/>
          </p:nvPicPr>
          <p:blipFill>
            <a:blip r:embed="rId1"/>
            <a:stretch/>
          </p:blipFill>
          <p:spPr>
            <a:xfrm>
              <a:off x="2916360" y="1484280"/>
              <a:ext cx="59767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/>
            <p:cNvSpPr/>
            <p:nvPr/>
          </p:nvSpPr>
          <p:spPr>
            <a:xfrm>
              <a:off x="2987640" y="4941720"/>
              <a:ext cx="2952720" cy="337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Transporte activo prim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6012000" y="4869000"/>
              <a:ext cx="2520720" cy="580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Transporte activo secund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8"/>
          <p:cNvSpPr/>
          <p:nvPr/>
        </p:nvSpPr>
        <p:spPr>
          <a:xfrm>
            <a:off x="5796000" y="1484280"/>
            <a:ext cx="2952720" cy="396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02320" cy="6350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692360" y="620640"/>
            <a:ext cx="187164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03640" y="476280"/>
            <a:ext cx="187200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CILI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443640" y="1509840"/>
            <a:ext cx="216072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IM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429160" y="5643720"/>
            <a:ext cx="2160720" cy="9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CUND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258920" y="5445000"/>
            <a:ext cx="1873080" cy="9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ON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ión o ligan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68360" y="2924280"/>
            <a:ext cx="1942920" cy="116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ONOF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diador del transporte de 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NALES IO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af5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n altamente específico para un ión determin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criminan el soluto por su tamaño y por su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pasaje de soluto es espontáneo y a favor de gradiente, sin aporte de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pertura del canal iónico puede depender d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) Del voltaje ó cambio de potencia de la membr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Del ligando ó molécula señaliz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DOCITOSIS Y EXOC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DOCITOSIS: - Fagoc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 Pinoc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 Endocitosis mediad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OC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619280" y="227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55640" y="227664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so de su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4360" y="5300640"/>
            <a:ext cx="3024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ortación de su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ra de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VES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af5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teínas de exportación son incluidas en vesículas que se fusionan con la membrana 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vesículas se forman por evaginación de la membrana del RE y del aparato de Gol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mero la vesícula se fusiona con el Golgi y posteriormente se forma una nueva vesícula que se fusiona con la membrana plasmática u organela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DE UNA BICAPA  Y UN LIPOS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rcRect l="25428" t="3539" r="0" b="16197"/>
          <a:stretch/>
        </p:blipFill>
        <p:spPr>
          <a:xfrm>
            <a:off x="324000" y="1700280"/>
            <a:ext cx="8316720" cy="421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116000" y="2924280"/>
            <a:ext cx="3311640" cy="861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Unidad individual:cabeza hidrofílica y cola hidrofób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851280" y="2355840"/>
            <a:ext cx="12254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vidad acu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03360" y="552600"/>
            <a:ext cx="793584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membrana"/>
          <p:cNvPicPr/>
          <p:nvPr/>
        </p:nvPicPr>
        <p:blipFill>
          <a:blip r:embed="rId1"/>
          <a:stretch/>
        </p:blipFill>
        <p:spPr>
          <a:xfrm>
            <a:off x="1258920" y="260280"/>
            <a:ext cx="676908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0" y="3998880"/>
            <a:ext cx="7056360" cy="2859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58680"/>
            <a:ext cx="8229600" cy="7063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TEINAS INTEGRALES DE MEMB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i10p15"/>
          <p:cNvPicPr/>
          <p:nvPr/>
        </p:nvPicPr>
        <p:blipFill>
          <a:blip r:embed="rId2"/>
          <a:stretch/>
        </p:blipFill>
        <p:spPr>
          <a:xfrm>
            <a:off x="324000" y="1052640"/>
            <a:ext cx="388908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6443640" y="907920"/>
            <a:ext cx="2413080" cy="352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4"/>
          <a:stretch/>
        </p:blipFill>
        <p:spPr>
          <a:xfrm>
            <a:off x="7016760" y="4581360"/>
            <a:ext cx="2127240" cy="2276640"/>
          </a:xfrm>
          <a:prstGeom prst="rect">
            <a:avLst/>
          </a:prstGeom>
          <a:ln w="0">
            <a:noFill/>
          </a:ln>
        </p:spPr>
      </p:pic>
      <p:sp>
        <p:nvSpPr>
          <p:cNvPr id="63" name="Oval 10"/>
          <p:cNvSpPr/>
          <p:nvPr/>
        </p:nvSpPr>
        <p:spPr>
          <a:xfrm>
            <a:off x="5580000" y="2565360"/>
            <a:ext cx="151308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icofor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eritroc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NSPORTE A TRAVES DE LA FORMACION DE UN P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2843280" y="1265400"/>
            <a:ext cx="3056040" cy="5619600"/>
            <a:chOff x="2843280" y="1265400"/>
            <a:chExt cx="3056040" cy="5619600"/>
          </a:xfrm>
        </p:grpSpPr>
        <p:pic>
          <p:nvPicPr>
            <p:cNvPr id="66" name="Picture 6" descr="fi10p22"/>
            <p:cNvPicPr/>
            <p:nvPr/>
          </p:nvPicPr>
          <p:blipFill>
            <a:blip r:embed="rId1"/>
            <a:stretch/>
          </p:blipFill>
          <p:spPr>
            <a:xfrm>
              <a:off x="2843280" y="1265400"/>
              <a:ext cx="3056040" cy="56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7"/>
            <p:cNvSpPr/>
            <p:nvPr/>
          </p:nvSpPr>
          <p:spPr>
            <a:xfrm>
              <a:off x="2859120" y="6378480"/>
              <a:ext cx="128124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9"/>
          <p:cNvSpPr/>
          <p:nvPr/>
        </p:nvSpPr>
        <p:spPr>
          <a:xfrm>
            <a:off x="2843280" y="1341360"/>
            <a:ext cx="1441440" cy="91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PACIO EXTRA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284720" y="1341360"/>
            <a:ext cx="15127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oro hidrofí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843280" y="3068640"/>
            <a:ext cx="1368360" cy="785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a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idrofób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PORTE  A TRAVES DE MENB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b5ff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SIVO: - Difusión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ifusión Facil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O: Con gasto de ener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8366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PORTADORES O “CARRI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868320" y="1268280"/>
            <a:ext cx="7519680" cy="5435640"/>
            <a:chOff x="868320" y="1268280"/>
            <a:chExt cx="7519680" cy="5435640"/>
          </a:xfrm>
        </p:grpSpPr>
        <p:grpSp>
          <p:nvGrpSpPr>
            <p:cNvPr id="75" name="Group 7"/>
            <p:cNvGrpSpPr/>
            <p:nvPr/>
          </p:nvGrpSpPr>
          <p:grpSpPr>
            <a:xfrm>
              <a:off x="869760" y="1268280"/>
              <a:ext cx="7518240" cy="5435640"/>
              <a:chOff x="869760" y="1268280"/>
              <a:chExt cx="7518240" cy="5435640"/>
            </a:xfrm>
          </p:grpSpPr>
          <p:pic>
            <p:nvPicPr>
              <p:cNvPr id="76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869760" y="1268280"/>
                <a:ext cx="7518240" cy="543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Rectangle 6"/>
              <p:cNvSpPr/>
              <p:nvPr/>
            </p:nvSpPr>
            <p:spPr>
              <a:xfrm>
                <a:off x="3317760" y="5940360"/>
                <a:ext cx="4608360" cy="76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 Box 8"/>
            <p:cNvSpPr/>
            <p:nvPr/>
          </p:nvSpPr>
          <p:spPr>
            <a:xfrm>
              <a:off x="868320" y="5651280"/>
              <a:ext cx="7489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Uniport             Simport             Anti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FUSION FACILI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0"/>
          <p:cNvGrpSpPr/>
          <p:nvPr/>
        </p:nvGrpSpPr>
        <p:grpSpPr>
          <a:xfrm>
            <a:off x="1476360" y="1601640"/>
            <a:ext cx="5149800" cy="5256360"/>
            <a:chOff x="1476360" y="1601640"/>
            <a:chExt cx="5149800" cy="5256360"/>
          </a:xfrm>
        </p:grpSpPr>
        <p:pic>
          <p:nvPicPr>
            <p:cNvPr id="81" name="Picture 6" descr="fi10p20"/>
            <p:cNvPicPr/>
            <p:nvPr/>
          </p:nvPicPr>
          <p:blipFill>
            <a:blip r:embed="rId1"/>
            <a:stretch/>
          </p:blipFill>
          <p:spPr>
            <a:xfrm>
              <a:off x="1476360" y="1601640"/>
              <a:ext cx="514980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7"/>
            <p:cNvSpPr/>
            <p:nvPr/>
          </p:nvSpPr>
          <p:spPr>
            <a:xfrm>
              <a:off x="1835280" y="4005360"/>
              <a:ext cx="25207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Proteínas formadora de po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1835280" y="6446880"/>
              <a:ext cx="439236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Moléculas transportadoras ó carr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9"/>
            <p:cNvSpPr/>
            <p:nvPr/>
          </p:nvSpPr>
          <p:spPr>
            <a:xfrm>
              <a:off x="3924360" y="1628640"/>
              <a:ext cx="2520720" cy="593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Molécu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transport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55:53Z</dcterms:created>
  <dc:creator>pc</dc:creator>
  <dc:description/>
  <dc:language>en-US</dc:language>
  <cp:lastModifiedBy>Usuario</cp:lastModifiedBy>
  <dcterms:modified xsi:type="dcterms:W3CDTF">2012-05-31T22:37:28Z</dcterms:modified>
  <cp:revision>69</cp:revision>
  <dc:subject/>
  <dc:title>CONSTITUCION DE LAS MEMBRANAS</dc:title>
</cp:coreProperties>
</file>